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879-B025-4FD1-95C5-E598A808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0A0-6F21-46EF-9257-B1043439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849-7260-48B9-B093-4464F179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59D-A638-40A2-9EF9-95E9A908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9FB-4988-4CB9-B312-1687DC8F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022-4F50-480A-A103-05CB04D5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D75-0CAB-4CCA-9164-CF035825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AB7-95A9-4EEC-9F91-52EC893D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D11-D6C6-478E-8E7F-AD7874DF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516-4D7C-4E51-9A6C-1CDCE654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F55-4992-4C5D-ABD7-B41BA69C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276-1ADD-4752-A629-1B3647D5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FE2B-5F8B-4552-9C89-4C8FD3D9B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-quadrat.narod.ru/01/pictures/01-turn-f3-600.gif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kindergenii.ru/grdiktant.htm" TargetMode="External"/><Relationship Id="rId2" Type="http://schemas.openxmlformats.org/officeDocument/2006/relationships/hyperlink" Target="http://www.kindergenii.ru/grdiktant.htm" TargetMode="External"/><Relationship Id="rId3" Type="http://schemas.openxmlformats.org/officeDocument/2006/relationships/hyperlink" Target="http://www.kindergenii.ru/grdiktant.htm" TargetMode="External"/><Relationship Id="rId4" Type="http://schemas.openxmlformats.org/officeDocument/2006/relationships/hyperlink" Target="http://www.kindergenii.ru/grdiktant.htm" TargetMode="External"/><Relationship Id="rId5" Type="http://schemas.openxmlformats.org/officeDocument/2006/relationships/hyperlink" Target="http://www.kindergenii.ru/grdiktant.htm" TargetMode="External"/><Relationship Id="rId6" Type="http://schemas.openxmlformats.org/officeDocument/2006/relationships/hyperlink" Target="http://tests.kulichki.com/golovolomki/" TargetMode="External"/><Relationship Id="rId7" Type="http://schemas.openxmlformats.org/officeDocument/2006/relationships/hyperlink" Target="http://tests.kulichki.com/golovolomki/" TargetMode="External"/><Relationship Id="rId8" Type="http://schemas.openxmlformats.org/officeDocument/2006/relationships/hyperlink" Target="http://tests.kulichki.com/golovolomki/" TargetMode="External"/><Relationship Id="rId9" Type="http://schemas.openxmlformats.org/officeDocument/2006/relationships/hyperlink" Target="http://tests.kulichki.com/golovolomki/" TargetMode="External"/><Relationship Id="rId10" Type="http://schemas.openxmlformats.org/officeDocument/2006/relationships/hyperlink" Target="http://tests.kulichki.com/golovolomki/" TargetMode="External"/><Relationship Id="rId11" Type="http://schemas.openxmlformats.org/officeDocument/2006/relationships/hyperlink" Target="http://tests.kulichki.com/golovolomki/" TargetMode="External"/><Relationship Id="rId12" Type="http://schemas.openxmlformats.org/officeDocument/2006/relationships/hyperlink" Target="http://dob.1september.ru/article.php?ID=200700518" TargetMode="External"/><Relationship Id="rId13" Type="http://schemas.openxmlformats.org/officeDocument/2006/relationships/hyperlink" Target="http://pedagogic.ru/books/item/f00/s00/z0000010/st004.shtml" TargetMode="Externa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640" y="836640"/>
            <a:ext cx="583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Увлекательное обучение детей декодированию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Выполн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шева Оксана – координатор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хнина Ю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дыгина 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исеева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абова М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301840" cy="287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40000" y="260280"/>
            <a:ext cx="4314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демия графических наук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 помощью магистра графических наук решаются следующи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5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витие умений определять и называть вид графического изображения (чертеж, схема, карта, план, наглядное изображение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ализ (выделение и называние) вида графического изоб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Называние вида заданного графического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Нахождение названного вида графического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Установление соответствия графического изображения и его наз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63640" y="5157720"/>
            <a:ext cx="1419120" cy="1352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564000" y="5084640"/>
            <a:ext cx="923760" cy="1438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716360" y="508464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372360" y="530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812000" y="5373720"/>
            <a:ext cx="1074960" cy="1074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712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витие умений определять, называть свойства изображенных объектов и их частей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ализ (выделение, называние) формы изображенных предметов (в т.ч. геометрических фигур) и их част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Выделение и называние заданных форм в графических изображе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Выделение элементов изображенных фигур: вершин, углов, сторон, ребер, гра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Определение симметричности изображенных объе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44800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нализ (выделение, называние) величины изображенных предметов и их частей Выделение заданных параметров вел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Сравнение изображенных объектов по велич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Установление сериационных отношений изображенных объектов по велич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0920" y="5661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67640" y="55897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84360" y="47242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227640" y="4292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427640" y="5084640"/>
            <a:ext cx="148572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нализ (выделение, называние) пространственных отношений изображенных предметов и их част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«Чтение» лабири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Определение взаимного расположения объектов и их частей на изображе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Сравнение изобра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3268440" cy="3979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омплексные зада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Выделение существенных признаков сходства или различия изображенных объектов и их ча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Выделение объектов на «зашумленных» или наложенных изображен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Поиск отличий в сходных изображен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Группировка изображений по различным признак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Определение недостающих или неадекватных деталей изобра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Установление соответствия изображений и реальных объ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Ориентировка по планам (чтение), соотнесение с реальной обстанов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Анализ изображений паркетов, мозаик, орнаментов: выделение составных частей (мотивов), определение их формы, величины и взаимного рас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Установление закономерностей в построении изобра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5640" y="5013360"/>
            <a:ext cx="2016000" cy="1660320"/>
          </a:xfrm>
          <a:prstGeom prst="rect">
            <a:avLst/>
          </a:prstGeom>
          <a:ln w="0">
            <a:noFill/>
          </a:ln>
        </p:spPr>
      </p:pic>
      <p:pic>
        <p:nvPicPr>
          <p:cNvPr id="94" name="26" descr="Математические мозаики: Рис.26"/>
          <p:cNvPicPr/>
          <p:nvPr/>
        </p:nvPicPr>
        <p:blipFill>
          <a:blip r:embed="rId2"/>
          <a:stretch/>
        </p:blipFill>
        <p:spPr>
          <a:xfrm>
            <a:off x="5651640" y="5084640"/>
            <a:ext cx="1944720" cy="157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5770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витие умений анализировать графический состав изображений (виды линий)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ализ изобра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Нахождение, называние типов линий, использованных в изображ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Поиск отличий в сходных изображениях (по типам линий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Группировка изобра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435640" y="2781360"/>
            <a:ext cx="3384360" cy="2582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5770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азвитие умений конструировать по графическому изображению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нструирование плоскостных модел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Конструирование по полному образцу (расчлененному на част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Конструирование по частично расчлененному образц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Конструирование по нерасчлененному образцу (контур, силуэ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208560" y="2781360"/>
            <a:ext cx="2217960" cy="1668960"/>
            <a:chOff x="6208560" y="2781360"/>
            <a:chExt cx="2217960" cy="1668960"/>
          </a:xfrm>
        </p:grpSpPr>
        <p:sp>
          <p:nvSpPr>
            <p:cNvPr id="99" name=""/>
            <p:cNvSpPr/>
            <p:nvPr/>
          </p:nvSpPr>
          <p:spPr>
            <a:xfrm>
              <a:off x="6208560" y="3615840"/>
              <a:ext cx="291600" cy="833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0520" y="3551760"/>
              <a:ext cx="349920" cy="898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00720" y="3551760"/>
              <a:ext cx="349560" cy="898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00520" y="3359160"/>
              <a:ext cx="933840" cy="6415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08560" y="3294720"/>
              <a:ext cx="233640" cy="449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51000" y="3615840"/>
              <a:ext cx="291600" cy="833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51000" y="3294720"/>
              <a:ext cx="233640" cy="44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2600" y="3294720"/>
              <a:ext cx="233280" cy="1155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92880" y="3294720"/>
              <a:ext cx="233640" cy="1155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2600" y="3166200"/>
              <a:ext cx="583560" cy="192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59240" y="2973600"/>
              <a:ext cx="349920" cy="2563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76240" y="2781360"/>
              <a:ext cx="115920" cy="25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2480" y="4129560"/>
              <a:ext cx="408240" cy="3204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770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онструирование объемных моделей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Конструирование из готовых разверток, выкро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Конструирование по наглядному изображ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Конструирование по чертежу в нескольких вид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01-turn-f3-200" descr="Журнал Квадрат - Фигура #3">
            <a:hlinkClick r:id="rId1"/>
          </p:cNvPr>
          <p:cNvPicPr/>
          <p:nvPr/>
        </p:nvPicPr>
        <p:blipFill>
          <a:blip r:embed="rId2"/>
          <a:stretch/>
        </p:blipFill>
        <p:spPr>
          <a:xfrm rot="5400000">
            <a:off x="5106600" y="1598400"/>
            <a:ext cx="3600360" cy="1644840"/>
          </a:xfrm>
          <a:prstGeom prst="rect">
            <a:avLst/>
          </a:prstGeom>
          <a:ln w="0">
            <a:noFill/>
          </a:ln>
        </p:spPr>
      </p:pic>
      <p:pic>
        <p:nvPicPr>
          <p:cNvPr id="114" name="01-turn-f3-ready-150" descr="Журнал Квадрат - Фигура #3"/>
          <p:cNvPicPr/>
          <p:nvPr/>
        </p:nvPicPr>
        <p:blipFill>
          <a:blip r:embed="rId3"/>
          <a:stretch/>
        </p:blipFill>
        <p:spPr>
          <a:xfrm>
            <a:off x="6804000" y="4724280"/>
            <a:ext cx="1460520" cy="1460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7354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звитие умений читать и воспроизводить заданную в графическом изображении последовательность действи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нализ графического изображения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онструирование по схеме, отражающей последовательность действий (оригами, «Квадрат Воскобовича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Определение и воспроизведение заданной последовательности действ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Комплекс диагностических заданий по декодированию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ит диагностические задания для выявления уровня сформированности умений по декодированию графической информации. Выполнение заданий оценивается по трехбалльной системе. В конце комплекса заданий дана характеристика уров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ать методические пособия по формированию знаний и умений у детей старшего дошкольного возраста декодировать графическую информ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4591080" cy="5649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00360" y="2133720"/>
            <a:ext cx="2381400" cy="22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мя________________________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амилия____________________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спешно закончил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РАФИЧЕСКУЮ АКАДЕМИЮ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ВАНИЕ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стер по декодированию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рафической информац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87640" y="9079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пло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692360" y="549360"/>
            <a:ext cx="92376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геева С.И. Обучение с увл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сарина Е.Ю., Фрид М.Е. Секреты квадрата и кубика. - М., 199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сарина Е.Ю., Фрид М.Е. Симметрия, орнаменты и мозаики. - М., 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дина Р.И. Куда не ходят поез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тковский А., Лыкова И. Цветная геомет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кова С.И. Математические ступен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Технология развития пространственного мышления и графических умений у детей 6 – 7 лет: Практическое пособие. – М.: АРКТИ,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Графика в детском саду: Технология развития пространственного мышления детей 6 – 7 лет (на основе графических изображений). - Сыктывкар: КГПИ,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Знакомство детей с геометрическими фигурами // Дошкольное воспитание. – М., 2000. - №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по стране Графика. Технология развития основ графической грамоты у детей 6 – 7 лет // Образование в современной школе. – 2003. - № 10,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с Линиточкой, Квадругом и Шарубиком по стране Графика: Технология развития основ графической грамоты у детей 6 – 7 лет // Дошкольное образование. - 2007. - № 5, 6 (вклад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по стране Графика. Технология развития основ графической грамоты у детей 6 – 7 лет // Образование в современной школе. – 2003. - № 10,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ова М.А. Путешествия с Линиточкой, Квадругом и Шарубиком по стране Графика: Технология развития основ графической грамоты у детей 6 – 7 лет // Дошкольное образование. - 2007. - № 5, 6 (вклад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врина С.Е., Кутявина Н.Л. Готовим руку к пись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нис А.Л. Считал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есникова Е.В. Цвет и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ерзон А.Е., Чекин А.Л. Азбука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икова Е.В. Как подготовить руку ребенка к пись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лтанова М.Н. Развиваем пространствен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kindergenii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rdiktant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tests.kulichki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olovolomk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dob.1september.ru/article.php?ID=2007005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pedagogic.ru/books/item/f00/s00/z0000010/st004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47640" y="1197000"/>
            <a:ext cx="6045480" cy="114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3086280" cy="3857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е теоретических основ проблемы декодирования графической информации детьми старшего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комплексных вариативных программ на предмет содержания задач по декодированию графическ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бор методической литературы по пробл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методических пособий по формированию знаний и умений у детей старшего дошкольного возраста декодировать графическ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Анализ программ выяви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ограммах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Детство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Программа воспитания и обучения в детском саду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Радуга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Парма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статочно полно представлены задачи по разделу «Декодирование графической информ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полно и развернуто задачи изложены в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«Программе воспитания и обучения в детском саду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азделах: математика, конструирование, ручной труд.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Программа воспитания и обучения в детском саду»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147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руппы  задач по декодирова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е определять и называть вид графических изображений (чертеж, схема, карта, план, наглядное изобра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й определять, называть свойства изображенных объектов и их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й анализировать графический состав изображения (виды ли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я конструировать по графическому изобра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я читать и воспроизводить заданную в графическом изображении последовательность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Портфолео проекта включает в себ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клет с рекомендациями для родителей по использованию рабочих тетра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ая тетрадь для овладения детьми декодированием графическ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лекс диагностических заданий по декодированию графическ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Методические пособ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80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клет с рекомендациями для родителей по использованию рабочих тетр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561168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Рабочая тетрад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60647997_1277198066_btjmobbo6[1]" descr=""/>
          <p:cNvPicPr/>
          <p:nvPr/>
        </p:nvPicPr>
        <p:blipFill>
          <a:blip r:embed="rId1"/>
          <a:stretch/>
        </p:blipFill>
        <p:spPr>
          <a:xfrm>
            <a:off x="3851280" y="3645000"/>
            <a:ext cx="1957320" cy="244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124000" y="1844640"/>
            <a:ext cx="55879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демия графических наук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00360" y="2276640"/>
            <a:ext cx="4427640" cy="11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чая тетрадь для овладения детьм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кодированием графической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28880" y="7515360"/>
            <a:ext cx="42289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рший дошкольный возра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1413000"/>
            <a:ext cx="0" cy="48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72360" y="1413000"/>
            <a:ext cx="0" cy="48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630864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Рабочая тетрад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634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вместе со взрослым поступает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КАДЕМИЮ ГРАФИЧЕСКИХ НАУ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десь он осваивает знания и умения по декодированию графической информации вместе с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агистром графических нау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Мудрый магистр следит за качеством выполнения ребенком заданий, оценивает их. По итогам выполнения всех заданий ребенку вручается дипл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60647997_1277198066_btjmobbo6[1]" descr=""/>
          <p:cNvPicPr/>
          <p:nvPr/>
        </p:nvPicPr>
        <p:blipFill>
          <a:blip r:embed="rId1"/>
          <a:stretch/>
        </p:blipFill>
        <p:spPr>
          <a:xfrm>
            <a:off x="6877080" y="2565360"/>
            <a:ext cx="19573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6:22:03Z</dcterms:created>
  <dc:creator>User</dc:creator>
  <dc:description/>
  <dc:language>en-US</dc:language>
  <cp:lastModifiedBy>AUD312</cp:lastModifiedBy>
  <dcterms:modified xsi:type="dcterms:W3CDTF">2010-12-24T08:06:44Z</dcterms:modified>
  <cp:revision>5</cp:revision>
  <dc:subject/>
  <dc:title>Увлекательное обучение детей декодированию графической информации</dc:title>
</cp:coreProperties>
</file>